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EAEB-C9AE-43C8-97FF-CDA37E90F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360A-956D-4391-9AB7-8B3D74203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907A0E-39FD-4EBA-84D7-54AACCDA8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E7D2F8-0B42-4799-9EA6-05FC33107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61AFBD-A6EF-4782-95B8-1BCE649EB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87DBF6-A43A-46EF-8E43-288DA2E6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D04A82-CBDC-4FCC-9625-56F8CDE8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1415B8-82BD-4F3A-BF09-546DDAC6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168B4C-9284-4FAB-9369-DE7B7352D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C781B7-2985-4B0F-BD0C-3820704A3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3567D8-F5CB-4E9E-A635-592CF4B0A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AD6607-FD2C-49AE-A5FD-48BF2DF95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F946-350C-46F3-B7B1-5C6168A23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6502F5-B87B-4514-8FB6-CDF78CB51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048898-A77C-47B7-AB13-A2719A2D4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269D1B-28EC-44A2-BA05-BDC486F94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33019E-E7B5-48F5-9815-66BDABCA3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FAC53C-3629-498B-B684-332F2B39D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15F743-A465-4B36-8DA1-ECD50289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81158F-5AA6-4104-AC27-B9F62BE2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784537-4938-48F3-8022-BA30960C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90246E-43E4-4985-816B-49677A55D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174CD0-5CAB-48BF-A8B5-8BC36134E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5A3C-EB76-4E3A-9C2F-9A2C5EF12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D9BDFF-5BE0-4120-AB6D-C89931E53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241B7F-5882-41F2-B780-5E87681FC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229BED-5309-483B-BEA0-49B9775EF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FBF412-0150-433F-9B11-7BAF29DDA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A70115-75EF-437F-8F15-383469085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805294-7D8D-409A-AA29-377B41CB5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144A3B-A329-4F0C-BF0C-5CDA603C6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29AA8D-ED5D-42D9-A679-D494C013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EFB355-5509-499C-8E77-C00DAE75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1D0B21-8804-4DC7-B2A4-2DB465EA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B7A6E-745F-4455-81AA-32D6E1A92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017AA1-0242-4CF4-B08E-B77D2E0E8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33AD3B-5D38-43E8-8320-7AABA0E4E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8B4D58-8B7F-46F9-A0D1-ABCF12152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AB81FC-A87F-49AD-998B-7B426773D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F474E3-920E-4BA4-9DD2-968AF28B1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CE3EB6-AC3C-4AD1-A6C2-D971E857B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E9E336-44F0-48CD-BB49-4DE7DF0D8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03238F-436B-4536-A027-8DFE0CD0C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B18DB0-7F6B-4FCD-9947-B3CBE5DFE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BDB782-6517-4497-A7DC-E25F5139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F28CA-5527-4559-BAFF-9909DFA47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FF9AB3-4C98-4341-B695-D72C094F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0DFC2C-B238-481D-BB37-8C3B7318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827656-B416-41C2-841F-789A485B6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115B9D-858D-49AA-9C86-2CC3405B4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6F7F38-C5A1-4A4F-A1D3-09496D061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C125E2-0D23-4BDC-AF7A-DB02B724E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CB370F-63BF-46C6-8872-B9805A7F6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86D928-CFFF-4A34-A008-FFF59C3D1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43B55C-E872-4AE8-BAE5-7AB5F69B4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59DCFD-09AF-435C-B8D6-E32E92EBD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F379C-22A1-4975-B52E-0D1C0E7AF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BDE704-FB06-49CB-BE19-0D3C9EF09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9D8845-C74F-4C3B-887B-304237AE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1B488A-9E04-4426-A4DA-FB689743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7DB80E-BEB6-47C7-9298-612F0824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5395AF-E202-40E2-92D6-DA0F4927F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8F7965-D751-4FB0-99BE-DB967E58A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3FEBDB-8DDD-4130-B04D-FC9DA4085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0E50EF-62F6-4CBF-A445-5E11155CA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4A9A9D-3BF6-4F74-9065-B2F83427B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F0E6FB-155A-40F1-B903-2DE0BBB70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3C24A-2C4B-4136-96A5-12888B6C8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D3E9A9-FC5F-45DA-802F-6D980AF74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BB5A18-BF6A-4284-AFF4-18903F7F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872861-F5FF-4832-B9A2-2964FA909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6B0C2F-DF0D-46A2-8074-D6F82F9A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270CB6-BC4F-44B6-96E0-59FC4D10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56D43D-EAB3-47A9-AB79-6914C433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3E1572-12BD-442D-A368-B7E8022AB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EA832E-9AA0-4610-94FD-7CC6C1726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B0A4B3-0C7F-480E-8AEE-D55AF8E15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785597-7854-4089-88E5-04A40427F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295C3-ACAC-4F50-92EA-C1E17896A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742488-F1E6-4A31-8794-133D1FBD0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F25C45-289D-4E01-850B-DD2EAA5AF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94FCAE-43A9-4063-A994-9C79CE468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2771DF-D202-4AB7-88C0-D5B693ECF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A8FC53-5883-4F46-AF02-5D80900A9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982CEC-A97D-4AFD-9560-47A9B667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2902CA-6E8A-43E6-9AB5-C47F1F12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0133F0-5BFF-4298-A8AD-3BEA7E1D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C02C70-6627-42DB-B315-248A60F23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2D4259-EEA5-4C07-910B-DDFCA77B2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75AF1-6BA5-4E58-9AD9-4B8E92E19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C21F4C-B27C-4787-A609-705C72350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214E79-9C8F-4624-9660-D7B8C8AC3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E9AF28-42D7-4537-939E-18A7AB3C0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C7D189-22E6-4744-9C14-D3392BA5C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B1A3D0-E3A9-48AC-8AD1-4BABDD908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6EA7D3-CB9C-4FAA-A6D3-B50F31DF9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8AE5F6-E3E2-44C2-98A1-565FDC734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01DA41-5169-49D3-B31F-49FF0F02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23915F-E86A-4308-AA7C-50B3EE33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CD9811-8D95-45F5-9E06-FC2C540F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B3D94-89D9-4D84-AA9D-35C904B5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7581D0-82FC-4F48-9C94-F91F87BF9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C2D4A8-6E44-4752-A669-A2700CF3E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368645-8EF3-4C34-9397-34555DAEA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53318B-707D-45FC-82EF-BFD145FB1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BF83C3-5ADB-4808-A681-0AD040C4F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DF4CC4-F4DA-4859-AF73-AA0A14B33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870CDB-ABC1-4B8F-97FB-940328B04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D9047C-32CC-4D28-A124-F4C9FBF9F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F9C01D-A419-47EB-9D8B-F9641EF19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427E44-E0C9-40FD-9D36-BB030933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8A08-B979-4D69-BA39-816454CA2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FF4DF-A256-491F-8222-3537B7F2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49FF73-8541-4DB5-BD4C-F7F32D66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CDFF07-F5C4-4FF4-B39A-63C336E7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A7B1A8-37AE-44F8-80F9-B42A8B81A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BB7E2D-364A-4561-8339-66D3749F4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6B13B3-5C7F-4AE0-AF0C-371223F83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0D18D5-6284-4086-8EA3-7C2F70DE5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2D126D-E7D5-483B-81A4-B6C0D879E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5D1A42-8380-4E33-90A0-39237A64C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1F2D1F-A82E-4EE0-B044-C0F3B6F89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0699C6-8092-4AD4-8DD9-A659D232A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E4D7F-DAAF-40CE-A9AC-7857A4A1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FE1D7C-AA91-4837-8013-2D5BF59BC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A18513-B9C4-4AEE-A285-245634AF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CACD9B-0F52-47DA-BCCC-BAC62945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E237DE-D332-40F1-8749-E25B2BCE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B7F4DB-5387-4A07-9855-A50319176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24E728-9BAF-42E1-B68F-64072BB3A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1C3DAF-A427-4807-B320-A95310202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D64FD2-A7C6-4C0E-8704-3E3563101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60DE1E-29B4-4B72-B313-9848081D2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839BA3-674C-4178-9CBB-5EB817130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E5775-7259-4771-8DCF-7EA400A3A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44034D-3102-4C9C-915B-E5284BFC9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575985-7144-4098-83F2-71FF73BC3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55A4E3-99D8-4A19-94BC-00F098685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0546A7-B419-4AE5-AABD-4F74409F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CD5AE3-B06E-486E-AA48-2DAD1C83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024C55-C5B8-45A2-A11B-BD6C0D3B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A729E4-7AAD-4883-A412-7E93D734D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72B27F-B444-4E67-969F-35F97B71C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5A3021-F4E5-4119-8B7E-3B2D94E3A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D072B3-52D8-4DD3-92F7-728541813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F42F9-6089-4B5A-93B9-9C2EFAB99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1E3233-6F1D-4073-81EB-D5D121AE1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75E6DD-327A-4E0D-B32A-36A100429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7A08CF-4766-4984-B622-D6208B5DC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454297-694A-4242-A17E-76A015C80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446763-C07B-47D8-A745-4C8B82E20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8414D2-64E5-489B-8FBA-8783D34D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1C0082-93AA-4873-8EE3-D144B769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FC1385-3078-4EEA-893E-45E5D182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021A4D-1A33-4A30-B532-F35753868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682215-9D3E-47A4-B23C-88CC36A43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B3A8E-4AE1-4B7C-B687-DDB2E8110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5EC811-2236-49EA-A276-19615D220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C954EE-966D-433F-BD18-E6F71ABB3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62ACBB-E3A1-4691-AB99-392A5A72F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CFEA5A-F3B6-4244-8610-E004C28E3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C34BFC-5472-4EF1-8260-FCACE0F77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D9449B-5A5C-445E-B72C-62C3CE8BB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230856-595D-4375-873B-920EB5A1F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180ACC-E194-4BC2-841C-F2D822B2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A4C1BA-F9A7-4FE7-9F62-02117E24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A2CE8F-325B-48D6-B8D0-AEDE2D96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84C9C-9EF5-428B-85D5-9AD7D9366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A0CA0F-5170-4247-B6F5-CB64DA579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89A41B-8335-4F54-BD44-51E0A9A86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8010FA-AE30-4A2C-B9BA-BD9884520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F6F02-539F-4080-B23A-0FA59F041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9BE4A-4240-42A1-B790-9D08B7E09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84BE3-13A3-430E-941A-C7E904DD5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3ABC0-DB0B-439F-A1E6-1D4F3C43A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EA26-98BF-4DDE-AFED-FF3B2663B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BFDD0-FE2F-4890-BABE-A54929785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884EA-234B-449F-AFB1-193D7DD2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0E887-CEEC-4027-8ED8-88EDC788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A13F8-0BD9-431F-9A4F-077F46BA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AC280-1B9A-4067-8A0C-B5DE2E3C1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1EF0D-EAE0-4014-9172-A560C2D60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945F4-0307-41A6-B7B0-F2D265BBC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365BB-189C-456E-93D3-E9AA295A8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49DF7-D56B-4E93-934A-3F3921680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0E1FD-2D19-4F8A-AE7D-595AE51D4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EEF3-0FEB-48C2-B0C3-D199D3D34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FB8D5-C764-4572-84CC-B759FAC7F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4AC20-DDB5-466A-87B5-D0E430CD5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FA75C-D0EF-439E-909B-41E48242A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CF25E-32FB-4D92-A189-35E212AD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6AA85-7C72-4565-887A-A10B6219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3D640-8650-4E36-84FC-387E276B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65C08-58AA-4B0D-891A-9420DEDC0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84DFA-2ADC-4468-BED7-88D5571B8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12573-FDEF-4741-97BD-3EADC2107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EC8B6-F215-4A62-9E6B-4169AB6BA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C672-6711-47F4-A843-EC956988F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42342F-A1BB-4BBF-B571-863B0176F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7C2BB-0209-4A95-9547-26E0B875A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19717-8E64-42C1-8F53-51DCAC0E0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17B62-70D3-4666-B6CF-B005873FF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3D478-377A-4802-8E82-02B21A681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C55EF-E51F-406C-9D03-4714902E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AA89C-D7D9-4FB1-ADF0-D1D76DC7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0D84A-6AE5-4739-8D01-51A1435A0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7F2B0-1945-4237-8322-C31679A84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AA0B4-B728-4AFA-89E2-C5D1CC35F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78F2-28E5-4947-BF4C-51FA951C9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EE13F-9A4B-47ED-9F68-18C376BB9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EAD35-9DD0-48B2-91A0-F718748D2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385C9-FD4A-4CB4-A7E6-49656E58C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E4623-F70B-49E4-AB93-EE8DE9DFD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F91B89-0672-41EA-98E9-FA137C5DE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796C16-1943-46AA-89B3-846274AFA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73009-E1A4-4B73-9147-278C244BD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FD39D-6B25-44E7-83CB-DBF80422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FEDAB-4E0F-4498-A317-A9C88D09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BF153-2168-4F27-9AB2-1BAE0E2B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2757-10CF-4458-8B64-F8AAD972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95F1E-D939-4047-9DA2-154ADB00A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50604B-9C83-40C3-B9D3-60C787DA0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ED8C38-BB17-422A-9F6C-941948D6F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9C432-A9D4-46F5-933E-8AC8E0A25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CDE766-B7CB-4948-8329-0EA184AC3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BF3494-2280-4E38-8D95-6DFE0AA80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A7078D-81E6-4428-BA48-DA80E770E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5C884E-2C6F-4349-8716-27C5EFB0A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5E4F7-C20B-4764-809D-FE965F04C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E1152F-E33C-4334-899F-07D07DA2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67EA-A4C9-44BD-9B7F-38FF7E3F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BA59AD-2892-4FE6-85BA-C25F0796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8D0EFE-885A-4037-B432-76C676FD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EEEBA0-104E-4B0E-B0D0-EDACD4358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AF2F3D-6372-4E48-ADC3-E10DD1861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1399E9-B6B2-4895-8206-8247F2EB7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ACC786-6584-47D7-AF1A-1DFF90375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545CF0-1F78-4E80-9D1A-7958EF6C5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748F43-ED0E-42DD-BE69-3B9288A7B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B557A3-6D0B-4873-A989-482AB33D6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D4CD8B-A789-412F-A561-2B8452045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48A1-9AC9-44CD-89DC-6EC7718F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889341-634D-4492-9F6C-3494671EF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D01660-5FF3-46E7-8D15-900A9B8C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D15E97-B549-4F76-AE23-94E903A6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542FAD-B53F-4F7C-8D10-CF608527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982DDA-47A1-4367-AD37-46D41118B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650E6E-CEC5-4967-BE85-5B8529564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E43D5B-7CC4-4C62-A756-6A1E9F1AF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6FE701-965F-4A73-95FD-9F34F181D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61149E-EB00-4CAE-89B7-A7B1C2820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7702CF-A667-428B-B924-689AB3537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954F9-8C1E-4254-99D6-3588D7AD9A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D8115-2F4D-48BC-963A-AEB54A6B51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F6183-7D51-4D9E-A6F6-E5D6EA922C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27D26-2928-4DC8-BEEC-334DBC15B0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FEE66-C7A1-489C-A288-B78C3653557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D8670-63F5-48AD-BB0D-7395701953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235E3-F056-481B-97EE-EA95939561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7F854-F23D-4D39-AA6E-D73C36A325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796BB-60AB-45DF-8B7C-4A35800D44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42907-98F7-447C-967A-FD57CA0FBC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8FA7D-410B-428F-A7B8-1D64D860E6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57EAB-A26A-4A52-91A5-087E74C8EA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4D556-A865-4069-BD1E-ACE23DB9D7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58BD5-45B7-4A54-8D41-2AE1235A99D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A3046-56B3-4E83-960F-7670480E62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F4441-8F93-4AD1-956F-A88CF2DEF5D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2BF7A-2817-424B-A46F-CBD7EC6A37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B37E2-99D9-4229-904C-CC35ECF74B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6D7EA-FB18-43E2-99D6-69B521E249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6D3F3-C230-4179-B919-B2FE88F7A9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611C6-0C0C-4402-A54C-CC108C35E4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86F65-21B8-481D-9AE5-E27A0E855B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70FD7-394C-4B75-97E7-7D788843CA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C2AA1-1970-4898-B33B-4F92EA9011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95956-F92A-4AF5-97C1-FCE4DB8F8A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0C62C-CB9F-45C9-9C32-3FEC6CB846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A39A-FEB8-4F57-B6D4-56711F060E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1D5F0-2311-4821-B89D-5DDBD66CD9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C7909-8617-416A-AB96-55F9375483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C2AC-AE49-43D9-BC98-35F37B5BAF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43688-7249-4B0C-A715-43A0F1AF1B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5266B-C86C-4ED4-BE46-E929A7FC75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99FC-D19D-4FD3-B483-A9E31371C1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44E18-E762-4B90-AC0A-B07440A02A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D3EE3-7591-46B4-9EFB-25FC15056E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4D207-6E2C-4458-A5E5-FAF66FBD9F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DB62A-13E2-40C1-9749-90F0E4C656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89F5C-DE26-4E6A-8564-33E325351C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CC792-4300-47FD-B696-E62DF9313C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7501D-6C5A-4EA4-A1C5-8ED2A743B3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185760" y="2581200"/>
            <a:ext cx="877104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95" name="图片 1" descr=""/>
          <p:cNvPicPr/>
          <p:nvPr/>
        </p:nvPicPr>
        <p:blipFill>
          <a:blip r:embed="rId1"/>
          <a:stretch/>
        </p:blipFill>
        <p:spPr>
          <a:xfrm>
            <a:off x="109440" y="1843200"/>
            <a:ext cx="8923320" cy="3171600"/>
          </a:xfrm>
          <a:prstGeom prst="rect">
            <a:avLst/>
          </a:prstGeom>
          <a:ln w="0">
            <a:noFill/>
          </a:ln>
        </p:spPr>
      </p:pic>
      <p:pic>
        <p:nvPicPr>
          <p:cNvPr id="1096" name="图片 3" descr=""/>
          <p:cNvPicPr/>
          <p:nvPr/>
        </p:nvPicPr>
        <p:blipFill>
          <a:blip r:embed="rId2"/>
          <a:stretch/>
        </p:blipFill>
        <p:spPr>
          <a:xfrm>
            <a:off x="770040" y="3665520"/>
            <a:ext cx="480960" cy="347760"/>
          </a:xfrm>
          <a:prstGeom prst="rect">
            <a:avLst/>
          </a:prstGeom>
          <a:ln w="0">
            <a:noFill/>
          </a:ln>
        </p:spPr>
      </p:pic>
      <p:pic>
        <p:nvPicPr>
          <p:cNvPr id="1097" name="图片 1" descr=""/>
          <p:cNvPicPr/>
          <p:nvPr/>
        </p:nvPicPr>
        <p:blipFill>
          <a:blip r:embed="rId3"/>
          <a:stretch/>
        </p:blipFill>
        <p:spPr>
          <a:xfrm>
            <a:off x="5160960" y="3665520"/>
            <a:ext cx="480960" cy="347760"/>
          </a:xfrm>
          <a:prstGeom prst="rect">
            <a:avLst/>
          </a:prstGeom>
          <a:ln w="0">
            <a:noFill/>
          </a:ln>
        </p:spPr>
      </p:pic>
      <p:pic>
        <p:nvPicPr>
          <p:cNvPr id="1098" name="图片 2" descr=""/>
          <p:cNvPicPr/>
          <p:nvPr/>
        </p:nvPicPr>
        <p:blipFill>
          <a:blip r:embed="rId4"/>
          <a:stretch/>
        </p:blipFill>
        <p:spPr>
          <a:xfrm>
            <a:off x="770040" y="4183200"/>
            <a:ext cx="480960" cy="347400"/>
          </a:xfrm>
          <a:prstGeom prst="rect">
            <a:avLst/>
          </a:prstGeom>
          <a:ln w="0">
            <a:noFill/>
          </a:ln>
        </p:spPr>
      </p:pic>
      <p:pic>
        <p:nvPicPr>
          <p:cNvPr id="1099" name="图片 4" descr=""/>
          <p:cNvPicPr/>
          <p:nvPr/>
        </p:nvPicPr>
        <p:blipFill>
          <a:blip r:embed="rId5"/>
          <a:stretch/>
        </p:blipFill>
        <p:spPr>
          <a:xfrm>
            <a:off x="5160960" y="4184640"/>
            <a:ext cx="480960" cy="431640"/>
          </a:xfrm>
          <a:prstGeom prst="rect">
            <a:avLst/>
          </a:prstGeom>
          <a:ln w="0">
            <a:noFill/>
          </a:ln>
        </p:spPr>
      </p:pic>
      <p:pic>
        <p:nvPicPr>
          <p:cNvPr id="1100" name="图片 5" descr=""/>
          <p:cNvPicPr/>
          <p:nvPr/>
        </p:nvPicPr>
        <p:blipFill>
          <a:blip r:embed="rId6"/>
          <a:stretch/>
        </p:blipFill>
        <p:spPr>
          <a:xfrm>
            <a:off x="770040" y="4748040"/>
            <a:ext cx="480960" cy="3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2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7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2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7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2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103" name="图片 1" descr=""/>
          <p:cNvPicPr/>
          <p:nvPr/>
        </p:nvPicPr>
        <p:blipFill>
          <a:blip r:embed="rId1"/>
          <a:stretch/>
        </p:blipFill>
        <p:spPr>
          <a:xfrm>
            <a:off x="519120" y="1233360"/>
            <a:ext cx="8104320" cy="4391280"/>
          </a:xfrm>
          <a:prstGeom prst="rect">
            <a:avLst/>
          </a:prstGeom>
          <a:ln w="0">
            <a:noFill/>
          </a:ln>
        </p:spPr>
      </p:pic>
      <p:pic>
        <p:nvPicPr>
          <p:cNvPr id="1104" name="图片 3" descr=""/>
          <p:cNvPicPr/>
          <p:nvPr/>
        </p:nvPicPr>
        <p:blipFill>
          <a:blip r:embed="rId2"/>
          <a:stretch/>
        </p:blipFill>
        <p:spPr>
          <a:xfrm>
            <a:off x="3564000" y="3801960"/>
            <a:ext cx="414360" cy="300240"/>
          </a:xfrm>
          <a:prstGeom prst="rect">
            <a:avLst/>
          </a:prstGeom>
          <a:ln w="0">
            <a:noFill/>
          </a:ln>
        </p:spPr>
      </p:pic>
      <p:pic>
        <p:nvPicPr>
          <p:cNvPr id="1105" name="图片 1" descr=""/>
          <p:cNvPicPr/>
          <p:nvPr/>
        </p:nvPicPr>
        <p:blipFill>
          <a:blip r:embed="rId3"/>
          <a:stretch/>
        </p:blipFill>
        <p:spPr>
          <a:xfrm>
            <a:off x="7499520" y="3797280"/>
            <a:ext cx="42228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9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4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108" name="图片 1" descr=""/>
          <p:cNvPicPr/>
          <p:nvPr/>
        </p:nvPicPr>
        <p:blipFill>
          <a:blip r:embed="rId1"/>
          <a:stretch/>
        </p:blipFill>
        <p:spPr>
          <a:xfrm>
            <a:off x="361800" y="1309680"/>
            <a:ext cx="8420400" cy="4238640"/>
          </a:xfrm>
          <a:prstGeom prst="rect">
            <a:avLst/>
          </a:prstGeom>
          <a:ln w="0">
            <a:noFill/>
          </a:ln>
        </p:spPr>
      </p:pic>
      <p:pic>
        <p:nvPicPr>
          <p:cNvPr id="1109" name="图片 3" descr=""/>
          <p:cNvPicPr/>
          <p:nvPr/>
        </p:nvPicPr>
        <p:blipFill>
          <a:blip r:embed="rId2"/>
          <a:stretch/>
        </p:blipFill>
        <p:spPr>
          <a:xfrm>
            <a:off x="1009800" y="1523880"/>
            <a:ext cx="457200" cy="252360"/>
          </a:xfrm>
          <a:prstGeom prst="rect">
            <a:avLst/>
          </a:prstGeom>
          <a:ln w="0">
            <a:noFill/>
          </a:ln>
        </p:spPr>
      </p:pic>
      <p:pic>
        <p:nvPicPr>
          <p:cNvPr id="1110" name="图片 1" descr=""/>
          <p:cNvPicPr/>
          <p:nvPr/>
        </p:nvPicPr>
        <p:blipFill>
          <a:blip r:embed="rId3"/>
          <a:stretch/>
        </p:blipFill>
        <p:spPr>
          <a:xfrm flipH="1" rot="10800000">
            <a:off x="8072280" y="1523520"/>
            <a:ext cx="481320" cy="252360"/>
          </a:xfrm>
          <a:prstGeom prst="rect">
            <a:avLst/>
          </a:prstGeom>
          <a:ln w="0">
            <a:noFill/>
          </a:ln>
        </p:spPr>
      </p:pic>
      <p:pic>
        <p:nvPicPr>
          <p:cNvPr id="1111" name="图片 2" descr=""/>
          <p:cNvPicPr/>
          <p:nvPr/>
        </p:nvPicPr>
        <p:blipFill>
          <a:blip r:embed="rId4"/>
          <a:stretch/>
        </p:blipFill>
        <p:spPr>
          <a:xfrm>
            <a:off x="3489480" y="3641760"/>
            <a:ext cx="47916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1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6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1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2"/>
          <a:stretch/>
        </p:blipFill>
        <p:spPr>
          <a:xfrm>
            <a:off x="6313320" y="365040"/>
            <a:ext cx="389160" cy="304920"/>
          </a:xfrm>
          <a:prstGeom prst="rect">
            <a:avLst/>
          </a:prstGeom>
          <a:ln w="0">
            <a:noFill/>
          </a:ln>
        </p:spPr>
      </p:pic>
      <p:pic>
        <p:nvPicPr>
          <p:cNvPr id="1029" name="图片 1" descr=""/>
          <p:cNvPicPr/>
          <p:nvPr/>
        </p:nvPicPr>
        <p:blipFill>
          <a:blip r:embed="rId3"/>
          <a:stretch/>
        </p:blipFill>
        <p:spPr>
          <a:xfrm>
            <a:off x="3214800" y="669960"/>
            <a:ext cx="2371680" cy="457200"/>
          </a:xfrm>
          <a:prstGeom prst="rect">
            <a:avLst/>
          </a:prstGeom>
          <a:ln w="0">
            <a:noFill/>
          </a:ln>
        </p:spPr>
      </p:pic>
      <p:pic>
        <p:nvPicPr>
          <p:cNvPr id="1030" name="图片 4" descr=""/>
          <p:cNvPicPr/>
          <p:nvPr/>
        </p:nvPicPr>
        <p:blipFill>
          <a:blip r:embed="rId4"/>
          <a:stretch/>
        </p:blipFill>
        <p:spPr>
          <a:xfrm>
            <a:off x="157320" y="1800360"/>
            <a:ext cx="8827920" cy="3257280"/>
          </a:xfrm>
          <a:prstGeom prst="rect">
            <a:avLst/>
          </a:prstGeom>
          <a:ln w="0">
            <a:noFill/>
          </a:ln>
        </p:spPr>
      </p:pic>
      <p:pic>
        <p:nvPicPr>
          <p:cNvPr id="1031" name="图片 1" descr=""/>
          <p:cNvPicPr/>
          <p:nvPr/>
        </p:nvPicPr>
        <p:blipFill>
          <a:blip r:embed="rId5"/>
          <a:stretch/>
        </p:blipFill>
        <p:spPr>
          <a:xfrm>
            <a:off x="866880" y="2448000"/>
            <a:ext cx="501480" cy="363600"/>
          </a:xfrm>
          <a:prstGeom prst="rect">
            <a:avLst/>
          </a:prstGeom>
          <a:ln w="0">
            <a:noFill/>
          </a:ln>
        </p:spPr>
      </p:pic>
      <p:pic>
        <p:nvPicPr>
          <p:cNvPr id="1032" name="图片 2" descr=""/>
          <p:cNvPicPr/>
          <p:nvPr/>
        </p:nvPicPr>
        <p:blipFill>
          <a:blip r:embed="rId6"/>
          <a:stretch/>
        </p:blipFill>
        <p:spPr>
          <a:xfrm>
            <a:off x="866880" y="3056040"/>
            <a:ext cx="501480" cy="363600"/>
          </a:xfrm>
          <a:prstGeom prst="rect">
            <a:avLst/>
          </a:prstGeom>
          <a:ln w="0">
            <a:noFill/>
          </a:ln>
        </p:spPr>
      </p:pic>
      <p:pic>
        <p:nvPicPr>
          <p:cNvPr id="1033" name="图片 3" descr=""/>
          <p:cNvPicPr/>
          <p:nvPr/>
        </p:nvPicPr>
        <p:blipFill>
          <a:blip r:embed="rId7"/>
          <a:stretch/>
        </p:blipFill>
        <p:spPr>
          <a:xfrm>
            <a:off x="866880" y="3584520"/>
            <a:ext cx="501480" cy="363600"/>
          </a:xfrm>
          <a:prstGeom prst="rect">
            <a:avLst/>
          </a:prstGeom>
          <a:ln w="0">
            <a:noFill/>
          </a:ln>
        </p:spPr>
      </p:pic>
      <p:pic>
        <p:nvPicPr>
          <p:cNvPr id="1034" name="图片 4" descr=""/>
          <p:cNvPicPr/>
          <p:nvPr/>
        </p:nvPicPr>
        <p:blipFill>
          <a:blip r:embed="rId8"/>
          <a:stretch/>
        </p:blipFill>
        <p:spPr>
          <a:xfrm>
            <a:off x="866880" y="4089240"/>
            <a:ext cx="501480" cy="365400"/>
          </a:xfrm>
          <a:prstGeom prst="rect">
            <a:avLst/>
          </a:prstGeom>
          <a:ln w="0">
            <a:noFill/>
          </a:ln>
        </p:spPr>
      </p:pic>
      <p:pic>
        <p:nvPicPr>
          <p:cNvPr id="1035" name="图片 5" descr=""/>
          <p:cNvPicPr/>
          <p:nvPr/>
        </p:nvPicPr>
        <p:blipFill>
          <a:blip r:embed="rId9"/>
          <a:stretch/>
        </p:blipFill>
        <p:spPr>
          <a:xfrm>
            <a:off x="866880" y="4694400"/>
            <a:ext cx="501480" cy="36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8" name="图片 3" descr=""/>
          <p:cNvPicPr/>
          <p:nvPr/>
        </p:nvPicPr>
        <p:blipFill>
          <a:blip r:embed="rId1"/>
          <a:stretch/>
        </p:blipFill>
        <p:spPr>
          <a:xfrm>
            <a:off x="147600" y="1300320"/>
            <a:ext cx="8847000" cy="4257360"/>
          </a:xfrm>
          <a:prstGeom prst="rect">
            <a:avLst/>
          </a:prstGeom>
          <a:ln w="0">
            <a:noFill/>
          </a:ln>
        </p:spPr>
      </p:pic>
      <p:pic>
        <p:nvPicPr>
          <p:cNvPr id="1039" name="图片 1" descr=""/>
          <p:cNvPicPr/>
          <p:nvPr/>
        </p:nvPicPr>
        <p:blipFill>
          <a:blip r:embed="rId2"/>
          <a:stretch/>
        </p:blipFill>
        <p:spPr>
          <a:xfrm>
            <a:off x="746280" y="1797120"/>
            <a:ext cx="501480" cy="365040"/>
          </a:xfrm>
          <a:prstGeom prst="rect">
            <a:avLst/>
          </a:prstGeom>
          <a:ln w="0">
            <a:noFill/>
          </a:ln>
        </p:spPr>
      </p:pic>
      <p:pic>
        <p:nvPicPr>
          <p:cNvPr id="1040" name="图片 2" descr=""/>
          <p:cNvPicPr/>
          <p:nvPr/>
        </p:nvPicPr>
        <p:blipFill>
          <a:blip r:embed="rId3"/>
          <a:stretch/>
        </p:blipFill>
        <p:spPr>
          <a:xfrm>
            <a:off x="5030640" y="1798560"/>
            <a:ext cx="500040" cy="363600"/>
          </a:xfrm>
          <a:prstGeom prst="rect">
            <a:avLst/>
          </a:prstGeom>
          <a:ln w="0">
            <a:noFill/>
          </a:ln>
        </p:spPr>
      </p:pic>
      <p:pic>
        <p:nvPicPr>
          <p:cNvPr id="1041" name="图片 3" descr=""/>
          <p:cNvPicPr/>
          <p:nvPr/>
        </p:nvPicPr>
        <p:blipFill>
          <a:blip r:embed="rId4"/>
          <a:stretch/>
        </p:blipFill>
        <p:spPr>
          <a:xfrm>
            <a:off x="746280" y="3100320"/>
            <a:ext cx="479160" cy="347760"/>
          </a:xfrm>
          <a:prstGeom prst="rect">
            <a:avLst/>
          </a:prstGeom>
          <a:ln w="0">
            <a:noFill/>
          </a:ln>
        </p:spPr>
      </p:pic>
      <p:pic>
        <p:nvPicPr>
          <p:cNvPr id="1042" name="图片 4" descr=""/>
          <p:cNvPicPr/>
          <p:nvPr/>
        </p:nvPicPr>
        <p:blipFill>
          <a:blip r:embed="rId5"/>
          <a:stretch/>
        </p:blipFill>
        <p:spPr>
          <a:xfrm>
            <a:off x="5156280" y="3049560"/>
            <a:ext cx="374400" cy="370080"/>
          </a:xfrm>
          <a:prstGeom prst="rect">
            <a:avLst/>
          </a:prstGeom>
          <a:ln w="0">
            <a:noFill/>
          </a:ln>
        </p:spPr>
      </p:pic>
      <p:pic>
        <p:nvPicPr>
          <p:cNvPr id="1043" name="图片 5" descr=""/>
          <p:cNvPicPr/>
          <p:nvPr/>
        </p:nvPicPr>
        <p:blipFill>
          <a:blip r:embed="rId6"/>
          <a:stretch/>
        </p:blipFill>
        <p:spPr>
          <a:xfrm>
            <a:off x="746280" y="4351320"/>
            <a:ext cx="479160" cy="3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3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6" name="图片 1" descr=""/>
          <p:cNvPicPr/>
          <p:nvPr/>
        </p:nvPicPr>
        <p:blipFill>
          <a:blip r:embed="rId1"/>
          <a:stretch/>
        </p:blipFill>
        <p:spPr>
          <a:xfrm>
            <a:off x="1200240" y="1952640"/>
            <a:ext cx="6743520" cy="2952720"/>
          </a:xfrm>
          <a:prstGeom prst="rect">
            <a:avLst/>
          </a:prstGeom>
          <a:ln w="0">
            <a:noFill/>
          </a:ln>
        </p:spPr>
      </p:pic>
      <p:pic>
        <p:nvPicPr>
          <p:cNvPr id="1047" name="图片 3" descr=""/>
          <p:cNvPicPr/>
          <p:nvPr/>
        </p:nvPicPr>
        <p:blipFill>
          <a:blip r:embed="rId2"/>
          <a:stretch/>
        </p:blipFill>
        <p:spPr>
          <a:xfrm>
            <a:off x="1828800" y="2508120"/>
            <a:ext cx="480960" cy="349560"/>
          </a:xfrm>
          <a:prstGeom prst="rect">
            <a:avLst/>
          </a:prstGeom>
          <a:ln w="0">
            <a:noFill/>
          </a:ln>
        </p:spPr>
      </p:pic>
      <p:pic>
        <p:nvPicPr>
          <p:cNvPr id="1048" name="图片 1" descr=""/>
          <p:cNvPicPr/>
          <p:nvPr/>
        </p:nvPicPr>
        <p:blipFill>
          <a:blip r:embed="rId3"/>
          <a:stretch/>
        </p:blipFill>
        <p:spPr>
          <a:xfrm>
            <a:off x="1828800" y="3021120"/>
            <a:ext cx="480960" cy="347400"/>
          </a:xfrm>
          <a:prstGeom prst="rect">
            <a:avLst/>
          </a:prstGeom>
          <a:ln w="0">
            <a:noFill/>
          </a:ln>
        </p:spPr>
      </p:pic>
      <p:pic>
        <p:nvPicPr>
          <p:cNvPr id="1049" name="图片 2" descr=""/>
          <p:cNvPicPr/>
          <p:nvPr/>
        </p:nvPicPr>
        <p:blipFill>
          <a:blip r:embed="rId4"/>
          <a:stretch/>
        </p:blipFill>
        <p:spPr>
          <a:xfrm>
            <a:off x="1828800" y="3521160"/>
            <a:ext cx="480960" cy="349200"/>
          </a:xfrm>
          <a:prstGeom prst="rect">
            <a:avLst/>
          </a:prstGeom>
          <a:ln w="0">
            <a:noFill/>
          </a:ln>
        </p:spPr>
      </p:pic>
      <p:pic>
        <p:nvPicPr>
          <p:cNvPr id="1050" name="图片 4" descr=""/>
          <p:cNvPicPr/>
          <p:nvPr/>
        </p:nvPicPr>
        <p:blipFill>
          <a:blip r:embed="rId5"/>
          <a:stretch/>
        </p:blipFill>
        <p:spPr>
          <a:xfrm>
            <a:off x="1828800" y="3952800"/>
            <a:ext cx="480960" cy="347760"/>
          </a:xfrm>
          <a:prstGeom prst="rect">
            <a:avLst/>
          </a:prstGeom>
          <a:ln w="0">
            <a:noFill/>
          </a:ln>
        </p:spPr>
      </p:pic>
      <p:pic>
        <p:nvPicPr>
          <p:cNvPr id="1051" name="图片 5" descr=""/>
          <p:cNvPicPr/>
          <p:nvPr/>
        </p:nvPicPr>
        <p:blipFill>
          <a:blip r:embed="rId6"/>
          <a:stretch/>
        </p:blipFill>
        <p:spPr>
          <a:xfrm>
            <a:off x="1828800" y="4557600"/>
            <a:ext cx="480960" cy="3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0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5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0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5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0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4" name="图片 1" descr=""/>
          <p:cNvPicPr/>
          <p:nvPr/>
        </p:nvPicPr>
        <p:blipFill>
          <a:blip r:embed="rId1"/>
          <a:stretch/>
        </p:blipFill>
        <p:spPr>
          <a:xfrm>
            <a:off x="880920" y="1962000"/>
            <a:ext cx="7382160" cy="2934000"/>
          </a:xfrm>
          <a:prstGeom prst="rect">
            <a:avLst/>
          </a:prstGeom>
          <a:ln w="0">
            <a:noFill/>
          </a:ln>
        </p:spPr>
      </p:pic>
      <p:pic>
        <p:nvPicPr>
          <p:cNvPr id="1055" name="图片 3" descr=""/>
          <p:cNvPicPr/>
          <p:nvPr/>
        </p:nvPicPr>
        <p:blipFill>
          <a:blip r:embed="rId2"/>
          <a:stretch/>
        </p:blipFill>
        <p:spPr>
          <a:xfrm>
            <a:off x="1549440" y="2521080"/>
            <a:ext cx="480960" cy="347400"/>
          </a:xfrm>
          <a:prstGeom prst="rect">
            <a:avLst/>
          </a:prstGeom>
          <a:ln w="0">
            <a:noFill/>
          </a:ln>
        </p:spPr>
      </p:pic>
      <p:pic>
        <p:nvPicPr>
          <p:cNvPr id="1056" name="图片 1" descr=""/>
          <p:cNvPicPr/>
          <p:nvPr/>
        </p:nvPicPr>
        <p:blipFill>
          <a:blip r:embed="rId3"/>
          <a:stretch/>
        </p:blipFill>
        <p:spPr>
          <a:xfrm>
            <a:off x="1549440" y="2940120"/>
            <a:ext cx="480960" cy="347760"/>
          </a:xfrm>
          <a:prstGeom prst="rect">
            <a:avLst/>
          </a:prstGeom>
          <a:ln w="0">
            <a:noFill/>
          </a:ln>
        </p:spPr>
      </p:pic>
      <p:pic>
        <p:nvPicPr>
          <p:cNvPr id="1057" name="图片 2" descr=""/>
          <p:cNvPicPr/>
          <p:nvPr/>
        </p:nvPicPr>
        <p:blipFill>
          <a:blip r:embed="rId4"/>
          <a:stretch/>
        </p:blipFill>
        <p:spPr>
          <a:xfrm>
            <a:off x="1549440" y="3533760"/>
            <a:ext cx="480960" cy="347760"/>
          </a:xfrm>
          <a:prstGeom prst="rect">
            <a:avLst/>
          </a:prstGeom>
          <a:ln w="0">
            <a:noFill/>
          </a:ln>
        </p:spPr>
      </p:pic>
      <p:pic>
        <p:nvPicPr>
          <p:cNvPr id="1058" name="图片 4" descr=""/>
          <p:cNvPicPr/>
          <p:nvPr/>
        </p:nvPicPr>
        <p:blipFill>
          <a:blip r:embed="rId5"/>
          <a:stretch/>
        </p:blipFill>
        <p:spPr>
          <a:xfrm>
            <a:off x="1549440" y="3987720"/>
            <a:ext cx="480960" cy="347760"/>
          </a:xfrm>
          <a:prstGeom prst="rect">
            <a:avLst/>
          </a:prstGeom>
          <a:ln w="0">
            <a:noFill/>
          </a:ln>
        </p:spPr>
      </p:pic>
      <p:pic>
        <p:nvPicPr>
          <p:cNvPr id="1059" name="图片 5" descr=""/>
          <p:cNvPicPr/>
          <p:nvPr/>
        </p:nvPicPr>
        <p:blipFill>
          <a:blip r:embed="rId6"/>
          <a:stretch/>
        </p:blipFill>
        <p:spPr>
          <a:xfrm>
            <a:off x="1549440" y="4476600"/>
            <a:ext cx="480960" cy="3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7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2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7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2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7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2" name="图片 1" descr=""/>
          <p:cNvPicPr/>
          <p:nvPr/>
        </p:nvPicPr>
        <p:blipFill>
          <a:blip r:embed="rId1"/>
          <a:stretch/>
        </p:blipFill>
        <p:spPr>
          <a:xfrm>
            <a:off x="57240" y="1422360"/>
            <a:ext cx="9031320" cy="4013280"/>
          </a:xfrm>
          <a:prstGeom prst="rect">
            <a:avLst/>
          </a:prstGeom>
          <a:ln w="0">
            <a:noFill/>
          </a:ln>
        </p:spPr>
      </p:pic>
      <p:pic>
        <p:nvPicPr>
          <p:cNvPr id="1063" name="图片 3" descr=""/>
          <p:cNvPicPr/>
          <p:nvPr/>
        </p:nvPicPr>
        <p:blipFill>
          <a:blip r:embed="rId2"/>
          <a:stretch/>
        </p:blipFill>
        <p:spPr>
          <a:xfrm>
            <a:off x="1203480" y="5181480"/>
            <a:ext cx="479160" cy="347760"/>
          </a:xfrm>
          <a:prstGeom prst="rect">
            <a:avLst/>
          </a:prstGeom>
          <a:ln w="0">
            <a:noFill/>
          </a:ln>
        </p:spPr>
      </p:pic>
      <p:pic>
        <p:nvPicPr>
          <p:cNvPr id="1064" name="图片 1" descr=""/>
          <p:cNvPicPr/>
          <p:nvPr/>
        </p:nvPicPr>
        <p:blipFill>
          <a:blip r:embed="rId3"/>
          <a:stretch/>
        </p:blipFill>
        <p:spPr>
          <a:xfrm>
            <a:off x="2995560" y="5181480"/>
            <a:ext cx="480960" cy="347760"/>
          </a:xfrm>
          <a:prstGeom prst="rect">
            <a:avLst/>
          </a:prstGeom>
          <a:ln w="0">
            <a:noFill/>
          </a:ln>
        </p:spPr>
      </p:pic>
      <p:pic>
        <p:nvPicPr>
          <p:cNvPr id="1065" name="图片 2" descr=""/>
          <p:cNvPicPr/>
          <p:nvPr/>
        </p:nvPicPr>
        <p:blipFill>
          <a:blip r:embed="rId4"/>
          <a:stretch/>
        </p:blipFill>
        <p:spPr>
          <a:xfrm>
            <a:off x="4727520" y="5181480"/>
            <a:ext cx="480960" cy="347760"/>
          </a:xfrm>
          <a:prstGeom prst="rect">
            <a:avLst/>
          </a:prstGeom>
          <a:ln w="0">
            <a:noFill/>
          </a:ln>
        </p:spPr>
      </p:pic>
      <p:pic>
        <p:nvPicPr>
          <p:cNvPr id="1066" name="图片 4" descr=""/>
          <p:cNvPicPr/>
          <p:nvPr/>
        </p:nvPicPr>
        <p:blipFill>
          <a:blip r:embed="rId5"/>
          <a:stretch/>
        </p:blipFill>
        <p:spPr>
          <a:xfrm>
            <a:off x="6508800" y="5181480"/>
            <a:ext cx="480960" cy="347760"/>
          </a:xfrm>
          <a:prstGeom prst="rect">
            <a:avLst/>
          </a:prstGeom>
          <a:ln w="0">
            <a:noFill/>
          </a:ln>
        </p:spPr>
      </p:pic>
      <p:pic>
        <p:nvPicPr>
          <p:cNvPr id="1067" name="图片 5" descr=""/>
          <p:cNvPicPr/>
          <p:nvPr/>
        </p:nvPicPr>
        <p:blipFill>
          <a:blip r:embed="rId6"/>
          <a:stretch/>
        </p:blipFill>
        <p:spPr>
          <a:xfrm>
            <a:off x="8253360" y="5181480"/>
            <a:ext cx="480960" cy="3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4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9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4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9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4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0" name="图片 1" descr=""/>
          <p:cNvPicPr/>
          <p:nvPr/>
        </p:nvPicPr>
        <p:blipFill>
          <a:blip r:embed="rId1"/>
          <a:stretch/>
        </p:blipFill>
        <p:spPr>
          <a:xfrm>
            <a:off x="252360" y="1909800"/>
            <a:ext cx="8637480" cy="3038400"/>
          </a:xfrm>
          <a:prstGeom prst="rect">
            <a:avLst/>
          </a:prstGeom>
          <a:ln w="0">
            <a:noFill/>
          </a:ln>
        </p:spPr>
      </p:pic>
      <p:pic>
        <p:nvPicPr>
          <p:cNvPr id="1071" name="图片 3" descr=""/>
          <p:cNvPicPr/>
          <p:nvPr/>
        </p:nvPicPr>
        <p:blipFill>
          <a:blip r:embed="rId2"/>
          <a:stretch/>
        </p:blipFill>
        <p:spPr>
          <a:xfrm>
            <a:off x="878040" y="2414520"/>
            <a:ext cx="480960" cy="347760"/>
          </a:xfrm>
          <a:prstGeom prst="rect">
            <a:avLst/>
          </a:prstGeom>
          <a:ln w="0">
            <a:noFill/>
          </a:ln>
        </p:spPr>
      </p:pic>
      <p:pic>
        <p:nvPicPr>
          <p:cNvPr id="1072" name="图片 1" descr=""/>
          <p:cNvPicPr/>
          <p:nvPr/>
        </p:nvPicPr>
        <p:blipFill>
          <a:blip r:embed="rId3"/>
          <a:stretch/>
        </p:blipFill>
        <p:spPr>
          <a:xfrm>
            <a:off x="878040" y="3003480"/>
            <a:ext cx="480960" cy="347760"/>
          </a:xfrm>
          <a:prstGeom prst="rect">
            <a:avLst/>
          </a:prstGeom>
          <a:ln w="0">
            <a:noFill/>
          </a:ln>
        </p:spPr>
      </p:pic>
      <p:pic>
        <p:nvPicPr>
          <p:cNvPr id="1073" name="图片 2" descr=""/>
          <p:cNvPicPr/>
          <p:nvPr/>
        </p:nvPicPr>
        <p:blipFill>
          <a:blip r:embed="rId4"/>
          <a:stretch/>
        </p:blipFill>
        <p:spPr>
          <a:xfrm>
            <a:off x="878040" y="3533760"/>
            <a:ext cx="480960" cy="347760"/>
          </a:xfrm>
          <a:prstGeom prst="rect">
            <a:avLst/>
          </a:prstGeom>
          <a:ln w="0">
            <a:noFill/>
          </a:ln>
        </p:spPr>
      </p:pic>
      <p:pic>
        <p:nvPicPr>
          <p:cNvPr id="1074" name="图片 4" descr=""/>
          <p:cNvPicPr/>
          <p:nvPr/>
        </p:nvPicPr>
        <p:blipFill>
          <a:blip r:embed="rId5"/>
          <a:stretch/>
        </p:blipFill>
        <p:spPr>
          <a:xfrm>
            <a:off x="878040" y="4002120"/>
            <a:ext cx="480960" cy="347760"/>
          </a:xfrm>
          <a:prstGeom prst="rect">
            <a:avLst/>
          </a:prstGeom>
          <a:ln w="0">
            <a:noFill/>
          </a:ln>
        </p:spPr>
      </p:pic>
      <p:pic>
        <p:nvPicPr>
          <p:cNvPr id="1075" name="图片 5" descr=""/>
          <p:cNvPicPr/>
          <p:nvPr/>
        </p:nvPicPr>
        <p:blipFill>
          <a:blip r:embed="rId6"/>
          <a:stretch/>
        </p:blipFill>
        <p:spPr>
          <a:xfrm>
            <a:off x="878040" y="4600440"/>
            <a:ext cx="480960" cy="3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1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6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1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6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1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8" name="图片 1" descr=""/>
          <p:cNvPicPr/>
          <p:nvPr/>
        </p:nvPicPr>
        <p:blipFill>
          <a:blip r:embed="rId1"/>
          <a:stretch/>
        </p:blipFill>
        <p:spPr>
          <a:xfrm>
            <a:off x="585720" y="890640"/>
            <a:ext cx="7970760" cy="5589360"/>
          </a:xfrm>
          <a:prstGeom prst="rect">
            <a:avLst/>
          </a:prstGeom>
          <a:ln w="0">
            <a:noFill/>
          </a:ln>
        </p:spPr>
      </p:pic>
      <p:pic>
        <p:nvPicPr>
          <p:cNvPr id="1079" name="图片 3" descr=""/>
          <p:cNvPicPr/>
          <p:nvPr/>
        </p:nvPicPr>
        <p:blipFill>
          <a:blip r:embed="rId2"/>
          <a:stretch/>
        </p:blipFill>
        <p:spPr>
          <a:xfrm>
            <a:off x="1176480" y="1449360"/>
            <a:ext cx="480960" cy="347760"/>
          </a:xfrm>
          <a:prstGeom prst="rect">
            <a:avLst/>
          </a:prstGeom>
          <a:ln w="0">
            <a:noFill/>
          </a:ln>
        </p:spPr>
      </p:pic>
      <p:pic>
        <p:nvPicPr>
          <p:cNvPr id="1080" name="图片 1" descr=""/>
          <p:cNvPicPr/>
          <p:nvPr/>
        </p:nvPicPr>
        <p:blipFill>
          <a:blip r:embed="rId3"/>
          <a:stretch/>
        </p:blipFill>
        <p:spPr>
          <a:xfrm>
            <a:off x="1176480" y="2416320"/>
            <a:ext cx="480960" cy="347400"/>
          </a:xfrm>
          <a:prstGeom prst="rect">
            <a:avLst/>
          </a:prstGeom>
          <a:ln w="0">
            <a:noFill/>
          </a:ln>
        </p:spPr>
      </p:pic>
      <p:pic>
        <p:nvPicPr>
          <p:cNvPr id="1081" name="图片 2" descr=""/>
          <p:cNvPicPr/>
          <p:nvPr/>
        </p:nvPicPr>
        <p:blipFill>
          <a:blip r:embed="rId4"/>
          <a:stretch/>
        </p:blipFill>
        <p:spPr>
          <a:xfrm>
            <a:off x="1176480" y="3519360"/>
            <a:ext cx="480960" cy="347760"/>
          </a:xfrm>
          <a:prstGeom prst="rect">
            <a:avLst/>
          </a:prstGeom>
          <a:ln w="0">
            <a:noFill/>
          </a:ln>
        </p:spPr>
      </p:pic>
      <p:pic>
        <p:nvPicPr>
          <p:cNvPr id="1082" name="图片 4" descr=""/>
          <p:cNvPicPr/>
          <p:nvPr/>
        </p:nvPicPr>
        <p:blipFill>
          <a:blip r:embed="rId5"/>
          <a:stretch/>
        </p:blipFill>
        <p:spPr>
          <a:xfrm>
            <a:off x="1209600" y="4568760"/>
            <a:ext cx="479520" cy="349200"/>
          </a:xfrm>
          <a:prstGeom prst="rect">
            <a:avLst/>
          </a:prstGeom>
          <a:ln w="0">
            <a:noFill/>
          </a:ln>
        </p:spPr>
      </p:pic>
      <p:pic>
        <p:nvPicPr>
          <p:cNvPr id="1083" name="图片 5" descr=""/>
          <p:cNvPicPr/>
          <p:nvPr/>
        </p:nvPicPr>
        <p:blipFill>
          <a:blip r:embed="rId6"/>
          <a:stretch/>
        </p:blipFill>
        <p:spPr>
          <a:xfrm>
            <a:off x="1209600" y="5594400"/>
            <a:ext cx="479520" cy="3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8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3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8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3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8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6" name="图片 1" descr=""/>
          <p:cNvPicPr/>
          <p:nvPr/>
        </p:nvPicPr>
        <p:blipFill>
          <a:blip r:embed="rId1"/>
          <a:stretch/>
        </p:blipFill>
        <p:spPr>
          <a:xfrm>
            <a:off x="398520" y="981000"/>
            <a:ext cx="7694640" cy="4524480"/>
          </a:xfrm>
          <a:prstGeom prst="rect">
            <a:avLst/>
          </a:prstGeom>
          <a:ln w="0">
            <a:noFill/>
          </a:ln>
        </p:spPr>
      </p:pic>
      <p:pic>
        <p:nvPicPr>
          <p:cNvPr id="1087" name="图片 2" descr=""/>
          <p:cNvPicPr/>
          <p:nvPr/>
        </p:nvPicPr>
        <p:blipFill>
          <a:blip r:embed="rId2"/>
          <a:stretch/>
        </p:blipFill>
        <p:spPr>
          <a:xfrm>
            <a:off x="873000" y="5761080"/>
            <a:ext cx="8199720" cy="876240"/>
          </a:xfrm>
          <a:prstGeom prst="rect">
            <a:avLst/>
          </a:prstGeom>
          <a:ln w="0">
            <a:noFill/>
          </a:ln>
        </p:spPr>
      </p:pic>
      <p:pic>
        <p:nvPicPr>
          <p:cNvPr id="1088" name="图片 3" descr=""/>
          <p:cNvPicPr/>
          <p:nvPr/>
        </p:nvPicPr>
        <p:blipFill>
          <a:blip r:embed="rId3"/>
          <a:stretch/>
        </p:blipFill>
        <p:spPr>
          <a:xfrm>
            <a:off x="1058760" y="1560600"/>
            <a:ext cx="347760" cy="347400"/>
          </a:xfrm>
          <a:prstGeom prst="rect">
            <a:avLst/>
          </a:prstGeom>
          <a:ln w="0">
            <a:noFill/>
          </a:ln>
        </p:spPr>
      </p:pic>
      <p:pic>
        <p:nvPicPr>
          <p:cNvPr id="1089" name="图片 1" descr=""/>
          <p:cNvPicPr/>
          <p:nvPr/>
        </p:nvPicPr>
        <p:blipFill>
          <a:blip r:embed="rId4"/>
          <a:stretch/>
        </p:blipFill>
        <p:spPr>
          <a:xfrm>
            <a:off x="992160" y="2533680"/>
            <a:ext cx="480960" cy="349200"/>
          </a:xfrm>
          <a:prstGeom prst="rect">
            <a:avLst/>
          </a:prstGeom>
          <a:ln w="0">
            <a:noFill/>
          </a:ln>
        </p:spPr>
      </p:pic>
      <p:pic>
        <p:nvPicPr>
          <p:cNvPr id="1090" name="图片 2" descr=""/>
          <p:cNvPicPr/>
          <p:nvPr/>
        </p:nvPicPr>
        <p:blipFill>
          <a:blip r:embed="rId5"/>
          <a:stretch/>
        </p:blipFill>
        <p:spPr>
          <a:xfrm>
            <a:off x="1058760" y="3660840"/>
            <a:ext cx="480960" cy="347760"/>
          </a:xfrm>
          <a:prstGeom prst="rect">
            <a:avLst/>
          </a:prstGeom>
          <a:ln w="0">
            <a:noFill/>
          </a:ln>
        </p:spPr>
      </p:pic>
      <p:pic>
        <p:nvPicPr>
          <p:cNvPr id="1091" name="图片 4" descr=""/>
          <p:cNvPicPr/>
          <p:nvPr/>
        </p:nvPicPr>
        <p:blipFill>
          <a:blip r:embed="rId6"/>
          <a:stretch/>
        </p:blipFill>
        <p:spPr>
          <a:xfrm>
            <a:off x="1058760" y="4653000"/>
            <a:ext cx="480960" cy="347760"/>
          </a:xfrm>
          <a:prstGeom prst="rect">
            <a:avLst/>
          </a:prstGeom>
          <a:ln w="0">
            <a:noFill/>
          </a:ln>
        </p:spPr>
      </p:pic>
      <p:pic>
        <p:nvPicPr>
          <p:cNvPr id="1092" name="图片 5" descr=""/>
          <p:cNvPicPr/>
          <p:nvPr/>
        </p:nvPicPr>
        <p:blipFill>
          <a:blip r:embed="rId7"/>
          <a:stretch/>
        </p:blipFill>
        <p:spPr>
          <a:xfrm>
            <a:off x="1166760" y="5854680"/>
            <a:ext cx="48096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5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0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5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0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5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3:21:16Z</dcterms:modified>
  <cp:revision>3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